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E5B8D45-24CE-4E22-9950-1A31518A1A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DD8843F-E8AB-49F6-ABF5-CCB5FCC3F5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F242B83-C979-4F23-BE2F-74F68C112ED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224DE8B-7B9E-43ED-A1F2-9780C5D406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167A202-7353-47FB-80C7-91DC68597CF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D7AA157-C3FA-47DD-816B-044991063C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E531EFE-B81B-4A32-A08D-B4F7CF35A05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F224D87-1B47-4827-AFAD-5B01F4291C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A943407-9AB0-4C49-9BE7-82542A5890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5FFB0B9-09AB-4B8A-89C2-986DC095353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E98828C-2C46-40A8-8F59-B48E1F88E6E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6AFA829-1E7E-4779-AD81-5ACC5BAA7BB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1385A37-E5B5-4585-A945-B9E84D15C9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A31533A-8178-4584-A7DE-62A8C5940C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9426A7A-160F-416B-B906-1990BE2F98F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76ED43C-E945-4053-810D-8F4970EF04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7050047-6EF1-464D-AD23-AE4B6E2584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108E5E3-C8E0-4092-9DC6-300B8F5C84B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1CB0689-F937-4C4A-9A77-8A8DA7277D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D42FB6F-1C62-4949-9253-18A5D92D8AF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ED8C9F7-FDC9-409E-8F9F-E2F2E979F20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E6562B1-173D-4A36-AB0F-E194ACB6350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791450F-4B0F-40D6-A2F3-F29030D549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5E26F90-397D-4ED8-85E2-C682D088315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F3DBE6A-28C5-4A7D-89D5-CC15B86F6D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AE19416-E9F5-4FA1-BA38-9C6EC133123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5EF7945-E09E-4D91-B886-6F2FD49B40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5E22CA4-2F6D-4955-85CC-943637A209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13CDBFA-A6A6-46CF-A7AD-C9D1E2C5969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1ED868A-7164-4E33-873C-2A51A956BA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09A5B70-04CA-4037-B3EC-B63D80BA033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C98F7FE-6E15-4FE7-BAD0-BD81C85AF2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4492D8B-1EEF-4AF4-B6A2-C697C2C665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C9DD7C4-AFED-405F-971D-1D52C891666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E987556-8B34-49F7-AFB5-40B9E92A5F3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E7C7042-1ACF-4CEE-8D18-4FCE8AE2C00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2F83E19-663D-4BE1-8710-CF13E8C1A7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4B3F2E3-2D59-403A-8B72-C376F155FB1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5A98A03-A52A-4ACD-B33E-3DB2B4E287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9DAACC7B-732E-402B-B6E2-05687E6812B0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0BBF94E-A1E9-4E66-B9AC-5925BF5BEC28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52640" y="914040"/>
            <a:ext cx="8091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sign and Code Review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Do Reviews? -2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4320" y="1450800"/>
            <a:ext cx="7685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unit test, defect removal becomes much more expens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integration and system test, it takes 10 to 40 programmer hours to find and fix each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typically take less than an hour per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inspection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’Neil:  80-90% yield at 25 minutes/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ilips:  5 minutes/defect, versus 8 hours per defect in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Do Reviews? -3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01360" y="1450800"/>
            <a:ext cx="7785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should be eliminated as early as possible, for the following reas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ry review, inspection, compile, and test finds only a fraction of the def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leaner the code entering a phase, the cleaner it will be on ex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ly defect removal saves time and mone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cost more to find and fix later in the development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cost much more to find and fix after product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Reviews Are Efficien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esting, y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a probl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find the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se a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 and test the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reviews and inspections, y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the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se a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 and review the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Reviews Are Efficien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esting, if the system produces an unusual result, you mu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ct that it was unusu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gure out what the test program was do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where it was in your prog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gure out what defect could cause such behavi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searching for the unplanned and unexpec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can take a lot of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Reviews Are Efficient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reviews and inspections, yo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your own log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exactly where you are when you find a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what the program should do and did not 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why this is a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in a better position to devise a complete and effective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Review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01720" y="1450800"/>
            <a:ext cx="7748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objective is to produce the highest possible program quality at every process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view strategy to achieve this goal i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 data on your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 these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de what works best for y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just your process according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a continuous learning process, using data on your own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Principl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reviews follow a disciplined process wi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ry and exit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view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lines, checklists, and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uggested PSP review goal is to find every defect before the first compile or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ddress this goal, you shou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ding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sign completeness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 and improve your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sign Review Principle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designs that can be review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an explicit review strateg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he design in stag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ify that the logic correctly implements the requir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98480" y="3567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roduce Designs That Can Be Reviewed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10720" y="1450800"/>
            <a:ext cx="7559640" cy="4189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viewable design has 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 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stent and clear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uggests th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’s purpose and function is explicitly st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have criteria for design complete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is structured in logical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ollow a Review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01360" y="1450800"/>
            <a:ext cx="76611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view strategy specifies the order in which you review the design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epends on the product structu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fore, the review strategy should be considered during desig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should be to produce a design that can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ed in s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ed in s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ed in s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the Design in S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reviewing in stages, you ensure that all selected topics are carefully check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ggested review stages ar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36640" y="2708280"/>
            <a:ext cx="76611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all elements have been design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ify overall program structure and flow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logical constructs for correctnes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for robustnes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function, method, and procedure calls to ensure proper us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special variables, parameters, types, and files for proper us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Verify that the Logic Correctly Implements the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07840" y="1896840"/>
            <a:ext cx="7559640" cy="437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he requirements to ensure that each required function is addressed by the desig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carefully for oversights and omiss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Measure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icit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of the program being review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 defects f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 defects not found (the escap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rived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yield (percent foun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reviewed per h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per 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per review hou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lever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Yield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13960" y="1450800"/>
            <a:ext cx="7659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asure of process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ercent of defects in the product at review time that were found by the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asure of the effectiveness of a process st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nd code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verall process (prior to tes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ment process (including tes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(for a phase or the entire process) =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defects found) / (defects found + not foun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Yield -2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6560" y="1450800"/>
            <a:ext cx="78123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cannot be calculated until all defects have been found through test and product us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can be useful early in the process if all or most defects are cou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nd code review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 test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rocess data, control parameters can help to ensure high-yield revi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moval Leverage (DRL)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01360" y="1450800"/>
            <a:ext cx="80881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 measures the relative effectiveness of a process step at removing def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 is the number of defects removed per hour by a process step relative to a base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sual base is unit test (UT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 (X/UT) is the DRL for phase X with respect to unit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 is calculated 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(X/UT) = (defects / hour phase X) / (defects / hour unit tes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Contro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13960" y="1450800"/>
            <a:ext cx="78980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your process, you need measures that are available while you are enacting the proces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yield and DRL are very helpful, they are not available until after process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eed is for measures th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e with yie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available at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tential Control Paramete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01360" y="1450800"/>
            <a:ext cx="8342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otential control parameters for yiel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reviewed per h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per h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per 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search has found the following correlations with y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/hour:  -0.63, with significance &gt; 0.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/hour:  0.14, with significance of 0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/KLOC:  0.47, with significance of 0.0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none are good, LOC/hour is b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393920" y="573120"/>
            <a:ext cx="6310080" cy="558144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3"/>
          <p:cNvSpPr/>
          <p:nvPr/>
        </p:nvSpPr>
        <p:spPr>
          <a:xfrm>
            <a:off x="1393920" y="571680"/>
            <a:ext cx="6311880" cy="55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638440" y="1908000"/>
            <a:ext cx="1440" cy="332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571840" y="523728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2571840" y="490536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2571840" y="457200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2571840" y="4240080"/>
            <a:ext cx="13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3" name="Line 10"/>
          <p:cNvSpPr/>
          <p:nvPr/>
        </p:nvSpPr>
        <p:spPr>
          <a:xfrm>
            <a:off x="2571840" y="390528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571840" y="357516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2571840" y="3240000"/>
            <a:ext cx="13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2571840" y="290844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2571840" y="257508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2571840" y="224316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571840" y="1908000"/>
            <a:ext cx="13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2638440" y="5237280"/>
            <a:ext cx="436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Line 18"/>
          <p:cNvSpPr/>
          <p:nvPr/>
        </p:nvSpPr>
        <p:spPr>
          <a:xfrm flipV="1">
            <a:off x="2638440" y="5169960"/>
            <a:ext cx="144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2" name="Line 19"/>
          <p:cNvSpPr/>
          <p:nvPr/>
        </p:nvSpPr>
        <p:spPr>
          <a:xfrm flipV="1">
            <a:off x="3730680" y="5169960"/>
            <a:ext cx="144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3" name="Line 20"/>
          <p:cNvSpPr/>
          <p:nvPr/>
        </p:nvSpPr>
        <p:spPr>
          <a:xfrm flipV="1">
            <a:off x="4821120" y="5169960"/>
            <a:ext cx="180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Line 21"/>
          <p:cNvSpPr/>
          <p:nvPr/>
        </p:nvSpPr>
        <p:spPr>
          <a:xfrm flipV="1">
            <a:off x="5913360" y="5169960"/>
            <a:ext cx="180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5" name="Line 22"/>
          <p:cNvSpPr/>
          <p:nvPr/>
        </p:nvSpPr>
        <p:spPr>
          <a:xfrm flipV="1">
            <a:off x="7004160" y="5169960"/>
            <a:ext cx="144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2583000" y="51814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2583000" y="4516560"/>
            <a:ext cx="110880" cy="11088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2583000" y="50338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Rectangle 26"/>
          <p:cNvSpPr/>
          <p:nvPr/>
        </p:nvSpPr>
        <p:spPr>
          <a:xfrm>
            <a:off x="2583000" y="51814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2583000" y="51814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Rectangle 28"/>
          <p:cNvSpPr/>
          <p:nvPr/>
        </p:nvSpPr>
        <p:spPr>
          <a:xfrm>
            <a:off x="2583000" y="51814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Rectangle 29"/>
          <p:cNvSpPr/>
          <p:nvPr/>
        </p:nvSpPr>
        <p:spPr>
          <a:xfrm>
            <a:off x="5272200" y="351936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6867360" y="3519360"/>
            <a:ext cx="11304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5691240" y="3614760"/>
            <a:ext cx="11124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4267080" y="1852560"/>
            <a:ext cx="11124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Rectangle 33"/>
          <p:cNvSpPr/>
          <p:nvPr/>
        </p:nvSpPr>
        <p:spPr>
          <a:xfrm>
            <a:off x="2336040" y="1062000"/>
            <a:ext cx="40179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ield vs. LOC/Hour - Student 20</a:t>
            </a:r>
            <a:endParaRPr b="1" lang="en-US" sz="2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2404800" y="5110200"/>
            <a:ext cx="1209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2287440" y="477828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2287440" y="444492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0" name="Rectangle 37"/>
          <p:cNvSpPr/>
          <p:nvPr/>
        </p:nvSpPr>
        <p:spPr>
          <a:xfrm>
            <a:off x="2287440" y="411336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1" name="Rectangle 38"/>
          <p:cNvSpPr/>
          <p:nvPr/>
        </p:nvSpPr>
        <p:spPr>
          <a:xfrm>
            <a:off x="2287440" y="377820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2" name="Rectangle 39"/>
          <p:cNvSpPr/>
          <p:nvPr/>
        </p:nvSpPr>
        <p:spPr>
          <a:xfrm>
            <a:off x="2287440" y="344664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3" name="Rectangle 40"/>
          <p:cNvSpPr/>
          <p:nvPr/>
        </p:nvSpPr>
        <p:spPr>
          <a:xfrm>
            <a:off x="2287440" y="311292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4" name="Rectangle 41"/>
          <p:cNvSpPr/>
          <p:nvPr/>
        </p:nvSpPr>
        <p:spPr>
          <a:xfrm>
            <a:off x="2287440" y="278136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5" name="Rectangle 42"/>
          <p:cNvSpPr/>
          <p:nvPr/>
        </p:nvSpPr>
        <p:spPr>
          <a:xfrm>
            <a:off x="2287440" y="244800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6" name="Rectangle 43"/>
          <p:cNvSpPr/>
          <p:nvPr/>
        </p:nvSpPr>
        <p:spPr>
          <a:xfrm>
            <a:off x="2287440" y="211608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2168640" y="178128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8" name="Rectangle 45"/>
          <p:cNvSpPr/>
          <p:nvPr/>
        </p:nvSpPr>
        <p:spPr>
          <a:xfrm>
            <a:off x="2630160" y="5425920"/>
            <a:ext cx="1209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9" name="Rectangle 46"/>
          <p:cNvSpPr/>
          <p:nvPr/>
        </p:nvSpPr>
        <p:spPr>
          <a:xfrm>
            <a:off x="3608280" y="542592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0" name="Rectangle 47"/>
          <p:cNvSpPr/>
          <p:nvPr/>
        </p:nvSpPr>
        <p:spPr>
          <a:xfrm>
            <a:off x="4699080" y="542592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1" name="Rectangle 48"/>
          <p:cNvSpPr/>
          <p:nvPr/>
        </p:nvSpPr>
        <p:spPr>
          <a:xfrm>
            <a:off x="5791320" y="542592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2" name="Rectangle 49"/>
          <p:cNvSpPr/>
          <p:nvPr/>
        </p:nvSpPr>
        <p:spPr>
          <a:xfrm>
            <a:off x="6880320" y="542592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3" name="Rectangle 50"/>
          <p:cNvSpPr/>
          <p:nvPr/>
        </p:nvSpPr>
        <p:spPr>
          <a:xfrm>
            <a:off x="4382280" y="5797440"/>
            <a:ext cx="10234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OC/Hour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4" name="Rectangle 51"/>
          <p:cNvSpPr/>
          <p:nvPr/>
        </p:nvSpPr>
        <p:spPr>
          <a:xfrm rot="16200000">
            <a:off x="182160" y="3321360"/>
            <a:ext cx="2772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Yield - % of Early Removal 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5" name="Rectangle 52"/>
          <p:cNvSpPr/>
          <p:nvPr/>
        </p:nvSpPr>
        <p:spPr>
          <a:xfrm rot="16200000">
            <a:off x="1461240" y="3387240"/>
            <a:ext cx="782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design and code review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should you do review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view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view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view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consid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OC Reviewed Per Hou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01360" y="1463400"/>
            <a:ext cx="76611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data have considerable var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examples show that structured reviews can be effective if th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a defined proced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ailored to each engineer’s defect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PSP, a suggested control target is to review no more than 200 LOC per hou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Consider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01720" y="1463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ing before or after comp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lationship of reviews and insp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hecklis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14320" y="1463400"/>
            <a:ext cx="77104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erforming precise tasks, it is difficult to do more than one thing well at a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hecklist defines the review steps in the suggested order for performing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checking off each item, you are more likely to perform it proper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personal checklist that is customized to your defect experie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ing Before Compi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01360" y="1450800"/>
            <a:ext cx="7761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calls for code reviews before the first comp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asons ar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ime is about the same, whether done before or after comp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s will find syntax defects that the compiler mi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s of compiled code tend to be much less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piler is equally effective before or after revi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55"/>
          <p:cNvGrpSpPr/>
          <p:nvPr/>
        </p:nvGrpSpPr>
        <p:grpSpPr>
          <a:xfrm>
            <a:off x="1393920" y="581040"/>
            <a:ext cx="6346800" cy="5586120"/>
            <a:chOff x="1393920" y="581040"/>
            <a:chExt cx="6346800" cy="5586120"/>
          </a:xfrm>
        </p:grpSpPr>
        <p:sp>
          <p:nvSpPr>
            <p:cNvPr id="365" name="Rectangle 54"/>
            <p:cNvSpPr/>
            <p:nvPr/>
          </p:nvSpPr>
          <p:spPr>
            <a:xfrm>
              <a:off x="1393920" y="581040"/>
              <a:ext cx="6346800" cy="558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6" name="Rectangle 4"/>
            <p:cNvSpPr/>
            <p:nvPr/>
          </p:nvSpPr>
          <p:spPr>
            <a:xfrm>
              <a:off x="2487600" y="1695240"/>
              <a:ext cx="4864320" cy="331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7" name="Line 5"/>
            <p:cNvSpPr/>
            <p:nvPr/>
          </p:nvSpPr>
          <p:spPr>
            <a:xfrm>
              <a:off x="2487600" y="1695240"/>
              <a:ext cx="1800" cy="331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2421000" y="50148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2421000" y="468468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2421000" y="435132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>
              <a:off x="2421000" y="40212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2421000" y="368784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2421000" y="335736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2421000" y="302400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>
              <a:off x="2421000" y="269244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2421000" y="235908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2421000" y="202860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2421000" y="169524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2487600" y="5014800"/>
              <a:ext cx="48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 flipV="1">
              <a:off x="2487600" y="494820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 flipV="1">
              <a:off x="3461040" y="494820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 flipV="1">
              <a:off x="4434120" y="494820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 flipV="1">
              <a:off x="5403960" y="494820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 flipV="1">
              <a:off x="6378840" y="494820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 flipV="1">
              <a:off x="7351920" y="494820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6" name="Rectangle 24"/>
            <p:cNvSpPr/>
            <p:nvPr/>
          </p:nvSpPr>
          <p:spPr>
            <a:xfrm>
              <a:off x="3210120" y="429552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7" name="Rectangle 25"/>
            <p:cNvSpPr/>
            <p:nvPr/>
          </p:nvSpPr>
          <p:spPr>
            <a:xfrm>
              <a:off x="2722680" y="4628880"/>
              <a:ext cx="11124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8" name="Rectangle 26"/>
            <p:cNvSpPr/>
            <p:nvPr/>
          </p:nvSpPr>
          <p:spPr>
            <a:xfrm>
              <a:off x="6419880" y="429552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9" name="Rectangle 27"/>
            <p:cNvSpPr/>
            <p:nvPr/>
          </p:nvSpPr>
          <p:spPr>
            <a:xfrm>
              <a:off x="3210120" y="363204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0" name="Rectangle 28"/>
            <p:cNvSpPr/>
            <p:nvPr/>
          </p:nvSpPr>
          <p:spPr>
            <a:xfrm>
              <a:off x="3210120" y="495936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1" name="Rectangle 29"/>
            <p:cNvSpPr/>
            <p:nvPr/>
          </p:nvSpPr>
          <p:spPr>
            <a:xfrm>
              <a:off x="3500640" y="330048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2" name="Rectangle 30"/>
            <p:cNvSpPr/>
            <p:nvPr/>
          </p:nvSpPr>
          <p:spPr>
            <a:xfrm>
              <a:off x="3015000" y="363204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3" name="Rectangle 31"/>
            <p:cNvSpPr/>
            <p:nvPr/>
          </p:nvSpPr>
          <p:spPr>
            <a:xfrm>
              <a:off x="2625840" y="495936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4" name="Rectangle 32"/>
            <p:cNvSpPr/>
            <p:nvPr/>
          </p:nvSpPr>
          <p:spPr>
            <a:xfrm>
              <a:off x="3015000" y="396540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5" name="Rectangle 33"/>
            <p:cNvSpPr/>
            <p:nvPr/>
          </p:nvSpPr>
          <p:spPr>
            <a:xfrm>
              <a:off x="2430720" y="495936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6" name="Rectangle 34"/>
            <p:cNvSpPr/>
            <p:nvPr/>
          </p:nvSpPr>
          <p:spPr>
            <a:xfrm>
              <a:off x="2186280" y="844560"/>
              <a:ext cx="475560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mpile vs. Test Defects - Student 20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7" name="Rectangle 35"/>
            <p:cNvSpPr/>
            <p:nvPr/>
          </p:nvSpPr>
          <p:spPr>
            <a:xfrm>
              <a:off x="2198880" y="48877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8" name="Rectangle 36"/>
            <p:cNvSpPr/>
            <p:nvPr/>
          </p:nvSpPr>
          <p:spPr>
            <a:xfrm>
              <a:off x="2198880" y="45561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9" name="Rectangle 37"/>
            <p:cNvSpPr/>
            <p:nvPr/>
          </p:nvSpPr>
          <p:spPr>
            <a:xfrm>
              <a:off x="2198880" y="42228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0" name="Rectangle 38"/>
            <p:cNvSpPr/>
            <p:nvPr/>
          </p:nvSpPr>
          <p:spPr>
            <a:xfrm>
              <a:off x="2198880" y="38923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1" name="Rectangle 39"/>
            <p:cNvSpPr/>
            <p:nvPr/>
          </p:nvSpPr>
          <p:spPr>
            <a:xfrm>
              <a:off x="2198880" y="35589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2" name="Rectangle 40"/>
            <p:cNvSpPr/>
            <p:nvPr/>
          </p:nvSpPr>
          <p:spPr>
            <a:xfrm>
              <a:off x="2198880" y="3228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3" name="Rectangle 41"/>
            <p:cNvSpPr/>
            <p:nvPr/>
          </p:nvSpPr>
          <p:spPr>
            <a:xfrm>
              <a:off x="2198880" y="28954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4" name="Rectangle 42"/>
            <p:cNvSpPr/>
            <p:nvPr/>
          </p:nvSpPr>
          <p:spPr>
            <a:xfrm>
              <a:off x="2198880" y="2565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5" name="Rectangle 43"/>
            <p:cNvSpPr/>
            <p:nvPr/>
          </p:nvSpPr>
          <p:spPr>
            <a:xfrm>
              <a:off x="2198880" y="2232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6" name="Rectangle 44"/>
            <p:cNvSpPr/>
            <p:nvPr/>
          </p:nvSpPr>
          <p:spPr>
            <a:xfrm>
              <a:off x="2198880" y="19000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7" name="Rectangle 45"/>
            <p:cNvSpPr/>
            <p:nvPr/>
          </p:nvSpPr>
          <p:spPr>
            <a:xfrm>
              <a:off x="2076480" y="156672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8" name="Rectangle 46"/>
            <p:cNvSpPr/>
            <p:nvPr/>
          </p:nvSpPr>
          <p:spPr>
            <a:xfrm>
              <a:off x="2426040" y="52052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9" name="Rectangle 47"/>
            <p:cNvSpPr/>
            <p:nvPr/>
          </p:nvSpPr>
          <p:spPr>
            <a:xfrm>
              <a:off x="333864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0" name="Rectangle 48"/>
            <p:cNvSpPr/>
            <p:nvPr/>
          </p:nvSpPr>
          <p:spPr>
            <a:xfrm>
              <a:off x="431172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1" name="Rectangle 49"/>
            <p:cNvSpPr/>
            <p:nvPr/>
          </p:nvSpPr>
          <p:spPr>
            <a:xfrm>
              <a:off x="528192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2" name="Rectangle 50"/>
            <p:cNvSpPr/>
            <p:nvPr/>
          </p:nvSpPr>
          <p:spPr>
            <a:xfrm>
              <a:off x="625500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3" name="Rectangle 51"/>
            <p:cNvSpPr/>
            <p:nvPr/>
          </p:nvSpPr>
          <p:spPr>
            <a:xfrm>
              <a:off x="722808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4" name="Rectangle 52"/>
            <p:cNvSpPr/>
            <p:nvPr/>
          </p:nvSpPr>
          <p:spPr>
            <a:xfrm>
              <a:off x="4052520" y="557820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5" name="Rectangle 53"/>
            <p:cNvSpPr/>
            <p:nvPr/>
          </p:nvSpPr>
          <p:spPr>
            <a:xfrm rot="16200000">
              <a:off x="1174320" y="325404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52"/>
          <p:cNvGrpSpPr/>
          <p:nvPr/>
        </p:nvGrpSpPr>
        <p:grpSpPr>
          <a:xfrm>
            <a:off x="1393920" y="581040"/>
            <a:ext cx="6346800" cy="5586120"/>
            <a:chOff x="1393920" y="581040"/>
            <a:chExt cx="6346800" cy="5586120"/>
          </a:xfrm>
        </p:grpSpPr>
        <p:sp>
          <p:nvSpPr>
            <p:cNvPr id="417" name="Rectangle 51"/>
            <p:cNvSpPr/>
            <p:nvPr/>
          </p:nvSpPr>
          <p:spPr>
            <a:xfrm>
              <a:off x="1393920" y="581040"/>
              <a:ext cx="6346800" cy="558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8" name="Line 4"/>
            <p:cNvSpPr/>
            <p:nvPr/>
          </p:nvSpPr>
          <p:spPr>
            <a:xfrm>
              <a:off x="2487600" y="1695240"/>
              <a:ext cx="1800" cy="331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9" name="Line 5"/>
            <p:cNvSpPr/>
            <p:nvPr/>
          </p:nvSpPr>
          <p:spPr>
            <a:xfrm>
              <a:off x="2421000" y="501336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>
              <a:off x="2421000" y="468144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421000" y="434808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>
              <a:off x="2421000" y="401796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3" name="Line 9"/>
            <p:cNvSpPr/>
            <p:nvPr/>
          </p:nvSpPr>
          <p:spPr>
            <a:xfrm>
              <a:off x="2421000" y="36846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2421000" y="335412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5" name="Line 11"/>
            <p:cNvSpPr/>
            <p:nvPr/>
          </p:nvSpPr>
          <p:spPr>
            <a:xfrm>
              <a:off x="2421000" y="302400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6" name="Line 12"/>
            <p:cNvSpPr/>
            <p:nvPr/>
          </p:nvSpPr>
          <p:spPr>
            <a:xfrm>
              <a:off x="2421000" y="269064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7" name="Line 13"/>
            <p:cNvSpPr/>
            <p:nvPr/>
          </p:nvSpPr>
          <p:spPr>
            <a:xfrm>
              <a:off x="2421000" y="235908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>
              <a:off x="2421000" y="202572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2421000" y="169524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2487600" y="5013360"/>
              <a:ext cx="48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1" name="Line 17"/>
            <p:cNvSpPr/>
            <p:nvPr/>
          </p:nvSpPr>
          <p:spPr>
            <a:xfrm flipV="1">
              <a:off x="2487600" y="4946040"/>
              <a:ext cx="18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 flipV="1">
              <a:off x="3703680" y="4946040"/>
              <a:ext cx="18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 flipV="1">
              <a:off x="4919760" y="4946040"/>
              <a:ext cx="18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 flipV="1">
              <a:off x="6135840" y="4946040"/>
              <a:ext cx="144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V="1">
              <a:off x="7351920" y="4946040"/>
              <a:ext cx="144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6" name="Rectangle 22"/>
            <p:cNvSpPr/>
            <p:nvPr/>
          </p:nvSpPr>
          <p:spPr>
            <a:xfrm>
              <a:off x="6321600" y="230328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7" name="Rectangle 23"/>
            <p:cNvSpPr/>
            <p:nvPr/>
          </p:nvSpPr>
          <p:spPr>
            <a:xfrm>
              <a:off x="2430720" y="429264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8" name="Rectangle 24"/>
            <p:cNvSpPr/>
            <p:nvPr/>
          </p:nvSpPr>
          <p:spPr>
            <a:xfrm>
              <a:off x="5105520" y="230328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9" name="Rectangle 25"/>
            <p:cNvSpPr/>
            <p:nvPr/>
          </p:nvSpPr>
          <p:spPr>
            <a:xfrm>
              <a:off x="4621320" y="3962160"/>
              <a:ext cx="11124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0" name="Rectangle 26"/>
            <p:cNvSpPr/>
            <p:nvPr/>
          </p:nvSpPr>
          <p:spPr>
            <a:xfrm>
              <a:off x="3889440" y="462600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1" name="Rectangle 27"/>
            <p:cNvSpPr/>
            <p:nvPr/>
          </p:nvSpPr>
          <p:spPr>
            <a:xfrm>
              <a:off x="3889440" y="462600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2" name="Rectangle 28"/>
            <p:cNvSpPr/>
            <p:nvPr/>
          </p:nvSpPr>
          <p:spPr>
            <a:xfrm>
              <a:off x="3162600" y="3962160"/>
              <a:ext cx="1108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3" name="Rectangle 29"/>
            <p:cNvSpPr/>
            <p:nvPr/>
          </p:nvSpPr>
          <p:spPr>
            <a:xfrm>
              <a:off x="2673360" y="4626000"/>
              <a:ext cx="11304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4" name="Rectangle 30"/>
            <p:cNvSpPr/>
            <p:nvPr/>
          </p:nvSpPr>
          <p:spPr>
            <a:xfrm>
              <a:off x="3646800" y="495612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5" name="Rectangle 31"/>
            <p:cNvSpPr/>
            <p:nvPr/>
          </p:nvSpPr>
          <p:spPr>
            <a:xfrm>
              <a:off x="2916360" y="462600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6" name="Rectangle 32"/>
            <p:cNvSpPr/>
            <p:nvPr/>
          </p:nvSpPr>
          <p:spPr>
            <a:xfrm>
              <a:off x="2261160" y="844560"/>
              <a:ext cx="46076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mpile vs. Test Defects - Student 1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7" name="Rectangle 33"/>
            <p:cNvSpPr/>
            <p:nvPr/>
          </p:nvSpPr>
          <p:spPr>
            <a:xfrm>
              <a:off x="2198880" y="48844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8" name="Rectangle 34"/>
            <p:cNvSpPr/>
            <p:nvPr/>
          </p:nvSpPr>
          <p:spPr>
            <a:xfrm>
              <a:off x="2198880" y="4554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9" name="Rectangle 35"/>
            <p:cNvSpPr/>
            <p:nvPr/>
          </p:nvSpPr>
          <p:spPr>
            <a:xfrm>
              <a:off x="2198880" y="4221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0" name="Rectangle 36"/>
            <p:cNvSpPr/>
            <p:nvPr/>
          </p:nvSpPr>
          <p:spPr>
            <a:xfrm>
              <a:off x="2198880" y="38908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1" name="Rectangle 37"/>
            <p:cNvSpPr/>
            <p:nvPr/>
          </p:nvSpPr>
          <p:spPr>
            <a:xfrm>
              <a:off x="2198880" y="35575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2" name="Rectangle 38"/>
            <p:cNvSpPr/>
            <p:nvPr/>
          </p:nvSpPr>
          <p:spPr>
            <a:xfrm>
              <a:off x="2198880" y="32256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3" name="Rectangle 39"/>
            <p:cNvSpPr/>
            <p:nvPr/>
          </p:nvSpPr>
          <p:spPr>
            <a:xfrm>
              <a:off x="2198880" y="28954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4" name="Rectangle 40"/>
            <p:cNvSpPr/>
            <p:nvPr/>
          </p:nvSpPr>
          <p:spPr>
            <a:xfrm>
              <a:off x="2198880" y="25621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5" name="Rectangle 41"/>
            <p:cNvSpPr/>
            <p:nvPr/>
          </p:nvSpPr>
          <p:spPr>
            <a:xfrm>
              <a:off x="2198880" y="2232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6" name="Rectangle 42"/>
            <p:cNvSpPr/>
            <p:nvPr/>
          </p:nvSpPr>
          <p:spPr>
            <a:xfrm>
              <a:off x="2198880" y="18986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7" name="Rectangle 43"/>
            <p:cNvSpPr/>
            <p:nvPr/>
          </p:nvSpPr>
          <p:spPr>
            <a:xfrm>
              <a:off x="2076480" y="156672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8" name="Rectangle 44"/>
            <p:cNvSpPr/>
            <p:nvPr/>
          </p:nvSpPr>
          <p:spPr>
            <a:xfrm>
              <a:off x="2426040" y="5202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9" name="Rectangle 45"/>
            <p:cNvSpPr/>
            <p:nvPr/>
          </p:nvSpPr>
          <p:spPr>
            <a:xfrm>
              <a:off x="3641760" y="5202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0" name="Rectangle 46"/>
            <p:cNvSpPr/>
            <p:nvPr/>
          </p:nvSpPr>
          <p:spPr>
            <a:xfrm>
              <a:off x="4795920" y="520200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1" name="Rectangle 47"/>
            <p:cNvSpPr/>
            <p:nvPr/>
          </p:nvSpPr>
          <p:spPr>
            <a:xfrm>
              <a:off x="6012000" y="520200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2" name="Rectangle 48"/>
            <p:cNvSpPr/>
            <p:nvPr/>
          </p:nvSpPr>
          <p:spPr>
            <a:xfrm>
              <a:off x="7228080" y="520200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3" name="Rectangle 49"/>
            <p:cNvSpPr/>
            <p:nvPr/>
          </p:nvSpPr>
          <p:spPr>
            <a:xfrm>
              <a:off x="4052520" y="557532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4" name="Rectangle 50"/>
            <p:cNvSpPr/>
            <p:nvPr/>
          </p:nvSpPr>
          <p:spPr>
            <a:xfrm rot="16200000">
              <a:off x="1174320" y="325404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ing Before Compi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14320" y="1450800"/>
            <a:ext cx="78631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uses compile as a check on the quality of the revi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oo many defects are found in compile, another review is called f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compile is clean, it is likely that most of the defects have been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 have completed the PSP exercises, you may wish to gather data on your reviews, both before and after compile, and see which is most effective for you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s and Inspection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focus of inspections should be to find those requirements and design problems that you have mis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rograms have many simple defects, inspectors are distracted and often miss more important probl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ing the code fir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 quality product for the insp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s respect for the inspectors’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s higher quality insp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02800" y="1452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nd code reviews effective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 the quality of your pro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o effective reviews, you m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review go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a disciplined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 and improve your review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are Reviews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view is a way to personally examine your own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one of a family of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kthroug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methods all have the objective of finding and fixing product defects early in the development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pe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450800"/>
            <a:ext cx="7773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were introduced by Fagan at IBM in 1976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follow a structured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ers perform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rs do not atte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participant has a defined ro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ation is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find probl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are useful for requirements, designs, code, test cases, plans, and the li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alkthrough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360" y="1450800"/>
            <a:ext cx="7723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kthroughs typically follow a meeting forma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er leads the audience through the produ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udience may include peers, managers, or other interested par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communicate or obtain appro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preparation is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kthroughs are most useful for requirements and system design issu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1720" y="1463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a personal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fessional privately reviews his/her produ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find defects before the first compile and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s are most effective when they are structured and measu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s can be used for requirement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Do Reviews?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1360" y="1450800"/>
            <a:ext cx="76849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how that it is much more efficient to find defects in reviews than in test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unit test, typically only about 2 to 4 defects are found per hou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s typically find about 6 to 10 defects per hou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enced reviewers can find 70% or more of the defects in a produ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 test rarely exceeds 50% y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data show that reviews find 2 to 5 times as many defects per hour as unit tes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02"/>
          <p:cNvGrpSpPr/>
          <p:nvPr/>
        </p:nvGrpSpPr>
        <p:grpSpPr>
          <a:xfrm>
            <a:off x="1758960" y="692280"/>
            <a:ext cx="5838840" cy="5462280"/>
            <a:chOff x="1758960" y="692280"/>
            <a:chExt cx="5838840" cy="5462280"/>
          </a:xfrm>
        </p:grpSpPr>
        <p:sp>
          <p:nvSpPr>
            <p:cNvPr id="172" name="Rectangle 4"/>
            <p:cNvSpPr/>
            <p:nvPr/>
          </p:nvSpPr>
          <p:spPr>
            <a:xfrm>
              <a:off x="1758960" y="692280"/>
              <a:ext cx="5838840" cy="5462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2838600" y="1771560"/>
              <a:ext cx="1440" cy="320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2772000" y="497664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2772000" y="4437000"/>
              <a:ext cx="13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772000" y="3914640"/>
              <a:ext cx="13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2772000" y="3375000"/>
              <a:ext cx="13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772000" y="283500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772000" y="231120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772000" y="1771560"/>
              <a:ext cx="13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838600" y="4976640"/>
              <a:ext cx="27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 flipV="1">
              <a:off x="283860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 flipV="1">
              <a:off x="314820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V="1">
              <a:off x="345924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V="1">
              <a:off x="377028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 flipV="1">
              <a:off x="408168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 flipV="1">
              <a:off x="437544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 flipV="1">
              <a:off x="468648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 flipV="1">
              <a:off x="499752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 flipV="1">
              <a:off x="530856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 flipV="1">
              <a:off x="561816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2838600" y="4600440"/>
              <a:ext cx="2779560" cy="375840"/>
            </a:xfrm>
            <a:custGeom>
              <a:avLst/>
              <a:gdLst/>
              <a:ahLst/>
              <a:rect l="l" t="t" r="r" b="b"/>
              <a:pathLst>
                <a:path w="170" h="23">
                  <a:moveTo>
                    <a:pt x="0" y="23"/>
                  </a:moveTo>
                  <a:lnTo>
                    <a:pt x="19" y="23"/>
                  </a:lnTo>
                  <a:lnTo>
                    <a:pt x="38" y="23"/>
                  </a:lnTo>
                  <a:lnTo>
                    <a:pt x="57" y="23"/>
                  </a:lnTo>
                  <a:lnTo>
                    <a:pt x="76" y="23"/>
                  </a:lnTo>
                  <a:lnTo>
                    <a:pt x="94" y="23"/>
                  </a:lnTo>
                  <a:lnTo>
                    <a:pt x="113" y="23"/>
                  </a:lnTo>
                  <a:lnTo>
                    <a:pt x="132" y="23"/>
                  </a:lnTo>
                  <a:lnTo>
                    <a:pt x="151" y="23"/>
                  </a:lnTo>
                  <a:lnTo>
                    <a:pt x="17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2838600" y="3193920"/>
              <a:ext cx="2779560" cy="1782360"/>
            </a:xfrm>
            <a:custGeom>
              <a:avLst/>
              <a:gdLst/>
              <a:ahLst/>
              <a:rect l="l" t="t" r="r" b="b"/>
              <a:pathLst>
                <a:path w="170" h="109">
                  <a:moveTo>
                    <a:pt x="0" y="0"/>
                  </a:moveTo>
                  <a:lnTo>
                    <a:pt x="19" y="109"/>
                  </a:lnTo>
                  <a:lnTo>
                    <a:pt x="38" y="63"/>
                  </a:lnTo>
                  <a:lnTo>
                    <a:pt x="57" y="31"/>
                  </a:lnTo>
                  <a:lnTo>
                    <a:pt x="76" y="62"/>
                  </a:lnTo>
                  <a:lnTo>
                    <a:pt x="94" y="73"/>
                  </a:lnTo>
                  <a:lnTo>
                    <a:pt x="113" y="31"/>
                  </a:lnTo>
                  <a:lnTo>
                    <a:pt x="132" y="59"/>
                  </a:lnTo>
                  <a:lnTo>
                    <a:pt x="151" y="45"/>
                  </a:lnTo>
                  <a:lnTo>
                    <a:pt x="170" y="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2838600" y="2360520"/>
              <a:ext cx="2779560" cy="111096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66"/>
                  </a:moveTo>
                  <a:lnTo>
                    <a:pt x="19" y="68"/>
                  </a:lnTo>
                  <a:lnTo>
                    <a:pt x="38" y="7"/>
                  </a:lnTo>
                  <a:lnTo>
                    <a:pt x="57" y="4"/>
                  </a:lnTo>
                  <a:lnTo>
                    <a:pt x="76" y="40"/>
                  </a:lnTo>
                  <a:lnTo>
                    <a:pt x="94" y="48"/>
                  </a:lnTo>
                  <a:lnTo>
                    <a:pt x="113" y="11"/>
                  </a:lnTo>
                  <a:lnTo>
                    <a:pt x="132" y="36"/>
                  </a:lnTo>
                  <a:lnTo>
                    <a:pt x="151" y="25"/>
                  </a:lnTo>
                  <a:lnTo>
                    <a:pt x="17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2838600" y="4503600"/>
              <a:ext cx="2779560" cy="293400"/>
            </a:xfrm>
            <a:custGeom>
              <a:avLst/>
              <a:gdLst/>
              <a:ahLst/>
              <a:rect l="l" t="t" r="r" b="b"/>
              <a:pathLst>
                <a:path w="170" h="18">
                  <a:moveTo>
                    <a:pt x="0" y="4"/>
                  </a:moveTo>
                  <a:lnTo>
                    <a:pt x="19" y="4"/>
                  </a:lnTo>
                  <a:lnTo>
                    <a:pt x="38" y="8"/>
                  </a:lnTo>
                  <a:lnTo>
                    <a:pt x="57" y="0"/>
                  </a:lnTo>
                  <a:lnTo>
                    <a:pt x="76" y="7"/>
                  </a:lnTo>
                  <a:lnTo>
                    <a:pt x="94" y="16"/>
                  </a:lnTo>
                  <a:lnTo>
                    <a:pt x="113" y="12"/>
                  </a:lnTo>
                  <a:lnTo>
                    <a:pt x="132" y="5"/>
                  </a:lnTo>
                  <a:lnTo>
                    <a:pt x="151" y="17"/>
                  </a:lnTo>
                  <a:lnTo>
                    <a:pt x="170" y="1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Oval 28"/>
            <p:cNvSpPr/>
            <p:nvPr/>
          </p:nvSpPr>
          <p:spPr>
            <a:xfrm>
              <a:off x="278928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Oval 29"/>
            <p:cNvSpPr/>
            <p:nvPr/>
          </p:nvSpPr>
          <p:spPr>
            <a:xfrm>
              <a:off x="309888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Oval 30"/>
            <p:cNvSpPr/>
            <p:nvPr/>
          </p:nvSpPr>
          <p:spPr>
            <a:xfrm>
              <a:off x="340992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Oval 31"/>
            <p:cNvSpPr/>
            <p:nvPr/>
          </p:nvSpPr>
          <p:spPr>
            <a:xfrm>
              <a:off x="3721320" y="4929120"/>
              <a:ext cx="9828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Oval 32"/>
            <p:cNvSpPr/>
            <p:nvPr/>
          </p:nvSpPr>
          <p:spPr>
            <a:xfrm>
              <a:off x="4032360" y="4929120"/>
              <a:ext cx="9828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1" name="Oval 33"/>
            <p:cNvSpPr/>
            <p:nvPr/>
          </p:nvSpPr>
          <p:spPr>
            <a:xfrm>
              <a:off x="4326120" y="4929120"/>
              <a:ext cx="9828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2" name="Oval 34"/>
            <p:cNvSpPr/>
            <p:nvPr/>
          </p:nvSpPr>
          <p:spPr>
            <a:xfrm>
              <a:off x="463716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3" name="Oval 35"/>
            <p:cNvSpPr/>
            <p:nvPr/>
          </p:nvSpPr>
          <p:spPr>
            <a:xfrm>
              <a:off x="494820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4" name="Oval 36"/>
            <p:cNvSpPr/>
            <p:nvPr/>
          </p:nvSpPr>
          <p:spPr>
            <a:xfrm>
              <a:off x="5259600" y="4929120"/>
              <a:ext cx="968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5" name="Oval 37"/>
            <p:cNvSpPr/>
            <p:nvPr/>
          </p:nvSpPr>
          <p:spPr>
            <a:xfrm>
              <a:off x="5569200" y="4552920"/>
              <a:ext cx="9828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2789280" y="314460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098880" y="4929120"/>
              <a:ext cx="98640" cy="96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0"/>
                  </a:moveTo>
                  <a:lnTo>
                    <a:pt x="62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3409920" y="4176720"/>
              <a:ext cx="98640" cy="96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0"/>
                  </a:moveTo>
                  <a:lnTo>
                    <a:pt x="62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3721320" y="365256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0" name="Freeform 42"/>
            <p:cNvSpPr/>
            <p:nvPr/>
          </p:nvSpPr>
          <p:spPr>
            <a:xfrm>
              <a:off x="4032360" y="415908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1" name="Freeform 43"/>
            <p:cNvSpPr/>
            <p:nvPr/>
          </p:nvSpPr>
          <p:spPr>
            <a:xfrm>
              <a:off x="4326120" y="4340160"/>
              <a:ext cx="98280" cy="96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0"/>
                  </a:moveTo>
                  <a:lnTo>
                    <a:pt x="62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2" name="Freeform 44"/>
            <p:cNvSpPr/>
            <p:nvPr/>
          </p:nvSpPr>
          <p:spPr>
            <a:xfrm>
              <a:off x="4637160" y="365256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4948200" y="410976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4" name="Freeform 46"/>
            <p:cNvSpPr/>
            <p:nvPr/>
          </p:nvSpPr>
          <p:spPr>
            <a:xfrm>
              <a:off x="5259600" y="388116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5569200" y="3816360"/>
              <a:ext cx="9828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Rectangle 48"/>
            <p:cNvSpPr/>
            <p:nvPr/>
          </p:nvSpPr>
          <p:spPr>
            <a:xfrm>
              <a:off x="2789280" y="3390840"/>
              <a:ext cx="9864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7" name="Rectangle 49"/>
            <p:cNvSpPr/>
            <p:nvPr/>
          </p:nvSpPr>
          <p:spPr>
            <a:xfrm>
              <a:off x="3098880" y="3423960"/>
              <a:ext cx="98640" cy="9648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8" name="Rectangle 50"/>
            <p:cNvSpPr/>
            <p:nvPr/>
          </p:nvSpPr>
          <p:spPr>
            <a:xfrm>
              <a:off x="3409920" y="2425680"/>
              <a:ext cx="9864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Rectangle 51"/>
            <p:cNvSpPr/>
            <p:nvPr/>
          </p:nvSpPr>
          <p:spPr>
            <a:xfrm>
              <a:off x="3721320" y="2376360"/>
              <a:ext cx="9828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Rectangle 52"/>
            <p:cNvSpPr/>
            <p:nvPr/>
          </p:nvSpPr>
          <p:spPr>
            <a:xfrm>
              <a:off x="4032360" y="2965320"/>
              <a:ext cx="9828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1" name="Rectangle 53"/>
            <p:cNvSpPr/>
            <p:nvPr/>
          </p:nvSpPr>
          <p:spPr>
            <a:xfrm>
              <a:off x="4326120" y="3095640"/>
              <a:ext cx="9828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2" name="Rectangle 54"/>
            <p:cNvSpPr/>
            <p:nvPr/>
          </p:nvSpPr>
          <p:spPr>
            <a:xfrm>
              <a:off x="4637160" y="2490840"/>
              <a:ext cx="9864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3" name="Rectangle 55"/>
            <p:cNvSpPr/>
            <p:nvPr/>
          </p:nvSpPr>
          <p:spPr>
            <a:xfrm>
              <a:off x="4948200" y="2900160"/>
              <a:ext cx="98640" cy="9828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4" name="Rectangle 56"/>
            <p:cNvSpPr/>
            <p:nvPr/>
          </p:nvSpPr>
          <p:spPr>
            <a:xfrm>
              <a:off x="5259600" y="2719440"/>
              <a:ext cx="9684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57"/>
            <p:cNvSpPr/>
            <p:nvPr/>
          </p:nvSpPr>
          <p:spPr>
            <a:xfrm>
              <a:off x="5569200" y="2311200"/>
              <a:ext cx="98280" cy="9828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6" name="Freeform 58"/>
            <p:cNvSpPr/>
            <p:nvPr/>
          </p:nvSpPr>
          <p:spPr>
            <a:xfrm>
              <a:off x="2789280" y="451944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7" name="Freeform 59"/>
            <p:cNvSpPr/>
            <p:nvPr/>
          </p:nvSpPr>
          <p:spPr>
            <a:xfrm>
              <a:off x="3098880" y="451944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8" name="Freeform 60"/>
            <p:cNvSpPr/>
            <p:nvPr/>
          </p:nvSpPr>
          <p:spPr>
            <a:xfrm>
              <a:off x="3409920" y="4584600"/>
              <a:ext cx="9864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9" name="Freeform 61"/>
            <p:cNvSpPr/>
            <p:nvPr/>
          </p:nvSpPr>
          <p:spPr>
            <a:xfrm>
              <a:off x="3721320" y="445428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0" name="Freeform 62"/>
            <p:cNvSpPr/>
            <p:nvPr/>
          </p:nvSpPr>
          <p:spPr>
            <a:xfrm>
              <a:off x="4032360" y="4568760"/>
              <a:ext cx="9828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Freeform 63"/>
            <p:cNvSpPr/>
            <p:nvPr/>
          </p:nvSpPr>
          <p:spPr>
            <a:xfrm>
              <a:off x="4326120" y="4716360"/>
              <a:ext cx="98280" cy="96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0"/>
                  </a:moveTo>
                  <a:lnTo>
                    <a:pt x="62" y="61"/>
                  </a:lnTo>
                  <a:lnTo>
                    <a:pt x="0" y="6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Freeform 64"/>
            <p:cNvSpPr/>
            <p:nvPr/>
          </p:nvSpPr>
          <p:spPr>
            <a:xfrm>
              <a:off x="4637160" y="4649760"/>
              <a:ext cx="9864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Freeform 65"/>
            <p:cNvSpPr/>
            <p:nvPr/>
          </p:nvSpPr>
          <p:spPr>
            <a:xfrm>
              <a:off x="4948200" y="453528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Freeform 66"/>
            <p:cNvSpPr/>
            <p:nvPr/>
          </p:nvSpPr>
          <p:spPr>
            <a:xfrm>
              <a:off x="5259600" y="4732200"/>
              <a:ext cx="96840" cy="979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0"/>
                  </a:moveTo>
                  <a:lnTo>
                    <a:pt x="61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Freeform 67"/>
            <p:cNvSpPr/>
            <p:nvPr/>
          </p:nvSpPr>
          <p:spPr>
            <a:xfrm>
              <a:off x="5569200" y="474804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Rectangle 68"/>
            <p:cNvSpPr/>
            <p:nvPr/>
          </p:nvSpPr>
          <p:spPr>
            <a:xfrm>
              <a:off x="2468520" y="887400"/>
              <a:ext cx="4118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fect Removal Rates - Class</a:t>
              </a:r>
              <a:endParaRPr b="1" lang="en-US" sz="23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Rectangle 69"/>
            <p:cNvSpPr/>
            <p:nvPr/>
          </p:nvSpPr>
          <p:spPr>
            <a:xfrm>
              <a:off x="2558880" y="484668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Rectangle 70"/>
            <p:cNvSpPr/>
            <p:nvPr/>
          </p:nvSpPr>
          <p:spPr>
            <a:xfrm>
              <a:off x="2558880" y="430668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Rectangle 71"/>
            <p:cNvSpPr/>
            <p:nvPr/>
          </p:nvSpPr>
          <p:spPr>
            <a:xfrm>
              <a:off x="2444400" y="378288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Rectangle 72"/>
            <p:cNvSpPr/>
            <p:nvPr/>
          </p:nvSpPr>
          <p:spPr>
            <a:xfrm>
              <a:off x="2444400" y="32432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Rectangle 73"/>
            <p:cNvSpPr/>
            <p:nvPr/>
          </p:nvSpPr>
          <p:spPr>
            <a:xfrm>
              <a:off x="2444400" y="27032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Rectangle 74"/>
            <p:cNvSpPr/>
            <p:nvPr/>
          </p:nvSpPr>
          <p:spPr>
            <a:xfrm>
              <a:off x="2444400" y="21794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Rectangle 75"/>
            <p:cNvSpPr/>
            <p:nvPr/>
          </p:nvSpPr>
          <p:spPr>
            <a:xfrm>
              <a:off x="2444400" y="16398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278892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309852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Rectangle 78"/>
            <p:cNvSpPr/>
            <p:nvPr/>
          </p:nvSpPr>
          <p:spPr>
            <a:xfrm>
              <a:off x="340956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Rectangle 79"/>
            <p:cNvSpPr/>
            <p:nvPr/>
          </p:nvSpPr>
          <p:spPr>
            <a:xfrm>
              <a:off x="372096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Rectangle 80"/>
            <p:cNvSpPr/>
            <p:nvPr/>
          </p:nvSpPr>
          <p:spPr>
            <a:xfrm>
              <a:off x="403200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9" name="Rectangle 81"/>
            <p:cNvSpPr/>
            <p:nvPr/>
          </p:nvSpPr>
          <p:spPr>
            <a:xfrm>
              <a:off x="432576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0" name="Rectangle 82"/>
            <p:cNvSpPr/>
            <p:nvPr/>
          </p:nvSpPr>
          <p:spPr>
            <a:xfrm>
              <a:off x="463680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1" name="Rectangle 83"/>
            <p:cNvSpPr/>
            <p:nvPr/>
          </p:nvSpPr>
          <p:spPr>
            <a:xfrm>
              <a:off x="494784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2" name="Rectangle 84"/>
            <p:cNvSpPr/>
            <p:nvPr/>
          </p:nvSpPr>
          <p:spPr>
            <a:xfrm>
              <a:off x="525924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3" name="Rectangle 85"/>
            <p:cNvSpPr/>
            <p:nvPr/>
          </p:nvSpPr>
          <p:spPr>
            <a:xfrm>
              <a:off x="5568480" y="515772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4" name="Rectangle 86"/>
            <p:cNvSpPr/>
            <p:nvPr/>
          </p:nvSpPr>
          <p:spPr>
            <a:xfrm>
              <a:off x="3163680" y="5565600"/>
              <a:ext cx="218016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Program Number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5" name="Rectangle 87"/>
            <p:cNvSpPr/>
            <p:nvPr/>
          </p:nvSpPr>
          <p:spPr>
            <a:xfrm rot="16200000">
              <a:off x="1312560" y="3219120"/>
              <a:ext cx="16574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efects/Hour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6" name="Rectangle 88"/>
            <p:cNvSpPr/>
            <p:nvPr/>
          </p:nvSpPr>
          <p:spPr>
            <a:xfrm>
              <a:off x="5945400" y="2687400"/>
              <a:ext cx="1587240" cy="139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7" name="Line 89"/>
            <p:cNvSpPr/>
            <p:nvPr/>
          </p:nvSpPr>
          <p:spPr>
            <a:xfrm>
              <a:off x="6027840" y="2882880"/>
              <a:ext cx="441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8" name="Oval 90"/>
            <p:cNvSpPr/>
            <p:nvPr/>
          </p:nvSpPr>
          <p:spPr>
            <a:xfrm>
              <a:off x="6191280" y="283500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9" name="Rectangle 91"/>
            <p:cNvSpPr/>
            <p:nvPr/>
          </p:nvSpPr>
          <p:spPr>
            <a:xfrm>
              <a:off x="6515280" y="2736720"/>
              <a:ext cx="9698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R Def/Hr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0" name="Line 92"/>
            <p:cNvSpPr/>
            <p:nvPr/>
          </p:nvSpPr>
          <p:spPr>
            <a:xfrm>
              <a:off x="6027840" y="3227400"/>
              <a:ext cx="441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Freeform 93"/>
            <p:cNvSpPr/>
            <p:nvPr/>
          </p:nvSpPr>
          <p:spPr>
            <a:xfrm>
              <a:off x="6191280" y="3178080"/>
              <a:ext cx="9864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94"/>
            <p:cNvSpPr/>
            <p:nvPr/>
          </p:nvSpPr>
          <p:spPr>
            <a:xfrm>
              <a:off x="6515640" y="3079800"/>
              <a:ext cx="957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R Def/Hr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Line 95"/>
            <p:cNvSpPr/>
            <p:nvPr/>
          </p:nvSpPr>
          <p:spPr>
            <a:xfrm>
              <a:off x="6027840" y="3570120"/>
              <a:ext cx="441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96"/>
            <p:cNvSpPr/>
            <p:nvPr/>
          </p:nvSpPr>
          <p:spPr>
            <a:xfrm>
              <a:off x="6191280" y="3520800"/>
              <a:ext cx="98640" cy="9828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Rectangle 97"/>
            <p:cNvSpPr/>
            <p:nvPr/>
          </p:nvSpPr>
          <p:spPr>
            <a:xfrm>
              <a:off x="6516000" y="3423960"/>
              <a:ext cx="8128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 Def/Hr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Line 98"/>
            <p:cNvSpPr/>
            <p:nvPr/>
          </p:nvSpPr>
          <p:spPr>
            <a:xfrm>
              <a:off x="6027840" y="3914640"/>
              <a:ext cx="441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7" name="Freeform 99"/>
            <p:cNvSpPr/>
            <p:nvPr/>
          </p:nvSpPr>
          <p:spPr>
            <a:xfrm>
              <a:off x="6191280" y="386532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8" name="Rectangle 100"/>
            <p:cNvSpPr/>
            <p:nvPr/>
          </p:nvSpPr>
          <p:spPr>
            <a:xfrm>
              <a:off x="6515640" y="3767040"/>
              <a:ext cx="801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 Def/Hr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11-05T17:37:48Z</cp:lastPrinted>
  <dcterms:modified xsi:type="dcterms:W3CDTF">2018-09-06T00:16:42Z</dcterms:modified>
  <cp:revision>65</cp:revision>
  <dc:subject/>
  <dc:title>No Slide Title</dc:title>
</cp:coreProperties>
</file>